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47A-32A6-4955-93E8-2755A788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F47-3226-43E4-B173-2E1CD544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054-F38B-4556-BDB9-60598380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643-14E2-4352-AE7A-228FB8D5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08A-C1AF-4FFF-B155-EBA47F20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9D0-32F0-4BBD-80C1-80609B30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751-2B18-4CC0-BB50-48822BCA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589-EF4C-4F91-8D20-872A3F6C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9A2-841C-4C38-AB48-BBCE2226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958-8580-48B2-BDD0-0CF18E89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937-CF3B-47EC-A6FE-4B1D999D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47C-4B54-4D62-B21C-4272F6C4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5239-F841-44E7-A5FC-A7885527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4 Nič sa, dieťa, nebo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Nie, nezanech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, nezanechá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ľúbil že bude so m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ma nezanechá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č sa, dieťa, ne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znie Pánov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eti mi na cest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lov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ieva nádej nov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priek noci t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uisten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ťa nezanec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Nie, nezanech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, nezanechá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ľúbil že bude so m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ma nezanechá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ístie opa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vety spáli mráz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ivý je prelu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ych sveta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však v svojej lásk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sľub dal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jeho Slova znie mi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ikdy ťa nezanec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Nie, nezanech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, nezanechá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ľúbil že bude so m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ma nezanechá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riateľa šípy hľadajú si ci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trachuj sa, ver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í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žiadnych skúšok ties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ostávam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mojom srdci znie vždy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ikdy ťa nezanec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3:31:50Z</dcterms:modified>
  <cp:revision>22</cp:revision>
  <dc:subject/>
  <dc:title>Je veľký náš Pán, on slávy je Kráľ Nech do všetkých strán  spev vrúcnych znie chvál.</dc:title>
</cp:coreProperties>
</file>